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2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15.wmf" ContentType="image/x-wmf"/>
  <Override PartName="/ppt/media/image1.jpeg" ContentType="image/jpeg"/>
  <Override PartName="/ppt/media/image7.png" ContentType="image/pn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907588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1C726-422E-46F0-8DA9-29220BEBF6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15520" y="139680"/>
            <a:ext cx="8255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5280" y="1446120"/>
            <a:ext cx="836784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5280" y="3943080"/>
            <a:ext cx="836784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AB5F9-C87D-4FAB-8DC1-BF7E82F22F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15520" y="139680"/>
            <a:ext cx="8255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5280" y="1446120"/>
            <a:ext cx="40834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583240" y="1446120"/>
            <a:ext cx="40834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5280" y="3943080"/>
            <a:ext cx="40834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583240" y="3943080"/>
            <a:ext cx="40834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F06D6-6E32-43EC-AF64-05ABED7A05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15520" y="139680"/>
            <a:ext cx="8255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446120"/>
            <a:ext cx="269424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124520" y="1446120"/>
            <a:ext cx="269424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954120" y="1446120"/>
            <a:ext cx="269424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5280" y="3943080"/>
            <a:ext cx="269424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124520" y="3943080"/>
            <a:ext cx="269424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954120" y="3943080"/>
            <a:ext cx="269424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18822-0822-4DA9-A4CF-AD1CBE6B99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F146D-E292-415F-B9BD-DA13A37FD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15520" y="139680"/>
            <a:ext cx="8255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95280" y="1446120"/>
            <a:ext cx="836784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120C3-C866-4CD5-AB6C-BB881780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15520" y="139680"/>
            <a:ext cx="8255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5280" y="1446120"/>
            <a:ext cx="836784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EAB879-EE90-492C-B6ED-B151685C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15520" y="139680"/>
            <a:ext cx="8255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95280" y="1446120"/>
            <a:ext cx="40834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583240" y="1446120"/>
            <a:ext cx="40834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E3FA0-7582-4F50-A3E9-5689F08C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15520" y="139680"/>
            <a:ext cx="8255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DA718-75D4-4FF3-BA8C-E53355C8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415520" y="139680"/>
            <a:ext cx="8255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CA6EA8-E0A5-4738-BA51-4BD2640D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15520" y="139680"/>
            <a:ext cx="8255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446120"/>
            <a:ext cx="40834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83240" y="1446120"/>
            <a:ext cx="40834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95280" y="3943080"/>
            <a:ext cx="40834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C7EA9-2BD5-4F7E-9729-510E9869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15520" y="139680"/>
            <a:ext cx="8255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5280" y="1446120"/>
            <a:ext cx="836784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66723-4E70-491B-909F-5D818F2B86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15520" y="139680"/>
            <a:ext cx="8255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5280" y="1446120"/>
            <a:ext cx="40834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583240" y="1446120"/>
            <a:ext cx="40834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583240" y="3943080"/>
            <a:ext cx="40834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88618-9133-4734-BC42-538E3433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15520" y="139680"/>
            <a:ext cx="8255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446120"/>
            <a:ext cx="40834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583240" y="1446120"/>
            <a:ext cx="40834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95280" y="3943080"/>
            <a:ext cx="836784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2B442F-7D34-429A-9978-B9479FA5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15520" y="139680"/>
            <a:ext cx="8255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446120"/>
            <a:ext cx="836784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295280" y="3943080"/>
            <a:ext cx="836784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F90223-1CD2-4C84-89EE-D62DD32D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15520" y="139680"/>
            <a:ext cx="8255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446120"/>
            <a:ext cx="40834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583240" y="1446120"/>
            <a:ext cx="40834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3943080"/>
            <a:ext cx="40834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583240" y="3943080"/>
            <a:ext cx="40834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1A415-25BE-4528-87AD-A3016B97D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15520" y="139680"/>
            <a:ext cx="8255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5280" y="1446120"/>
            <a:ext cx="269424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124520" y="1446120"/>
            <a:ext cx="269424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954120" y="1446120"/>
            <a:ext cx="269424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295280" y="3943080"/>
            <a:ext cx="269424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124520" y="3943080"/>
            <a:ext cx="269424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954120" y="3943080"/>
            <a:ext cx="269424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A89BE-9F37-409F-A4DF-4F7E75DAC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15520" y="139680"/>
            <a:ext cx="8255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5280" y="1446120"/>
            <a:ext cx="836784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C180A-CAB8-44C5-9BDF-EBD38BDE8D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15520" y="139680"/>
            <a:ext cx="8255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5280" y="1446120"/>
            <a:ext cx="40834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83240" y="1446120"/>
            <a:ext cx="40834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9232D-FE54-495F-9A5E-5841B4D418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15520" y="139680"/>
            <a:ext cx="8255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04EA1-BF3E-4AE2-83E1-E2AB24243F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15520" y="139680"/>
            <a:ext cx="8255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98BB7-0EC0-4F1D-956C-8B2C4EFA2D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15520" y="139680"/>
            <a:ext cx="8255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446120"/>
            <a:ext cx="40834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83240" y="1446120"/>
            <a:ext cx="40834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5280" y="3943080"/>
            <a:ext cx="40834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7C2A5-0034-4DD3-9F27-6A7BEB5B5A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15520" y="139680"/>
            <a:ext cx="8255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446120"/>
            <a:ext cx="408348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83240" y="1446120"/>
            <a:ext cx="40834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583240" y="3943080"/>
            <a:ext cx="40834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C57B9-62E4-488E-B4CA-4A1887A911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15520" y="139680"/>
            <a:ext cx="8255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5280" y="1446120"/>
            <a:ext cx="40834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583240" y="1446120"/>
            <a:ext cx="40834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5280" y="3943080"/>
            <a:ext cx="836784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99954-5D1B-4406-9461-A472627754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637320"/>
            <a:ext cx="9906120" cy="220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0c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95280" y="1446120"/>
            <a:ext cx="836784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451"/>
              </a:spcBef>
              <a:buClr>
                <a:srgbClr val="ff0000"/>
              </a:buClr>
              <a:buSzPct val="6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0c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0c00"/>
              </a:solidFill>
              <a:latin typeface="Verdana"/>
            </a:endParaRPr>
          </a:p>
          <a:p>
            <a:pPr lvl="1" marL="569880" indent="-285840">
              <a:spcBef>
                <a:spcPts val="451"/>
              </a:spcBef>
              <a:buClr>
                <a:srgbClr val="a88472"/>
              </a:buClr>
              <a:buSzPct val="6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0c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0c00"/>
              </a:solidFill>
              <a:latin typeface="Verdana"/>
            </a:endParaRPr>
          </a:p>
          <a:p>
            <a:pPr lvl="2" marL="852480" indent="-280800">
              <a:spcBef>
                <a:spcPts val="451"/>
              </a:spcBef>
              <a:buClr>
                <a:srgbClr val="a8847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0c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0c00"/>
              </a:solidFill>
              <a:latin typeface="Verdana"/>
            </a:endParaRPr>
          </a:p>
          <a:p>
            <a:pPr lvl="3" marL="1147680" indent="-293760">
              <a:spcBef>
                <a:spcPts val="451"/>
              </a:spcBef>
              <a:buClr>
                <a:srgbClr val="ff51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0c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0c00"/>
              </a:solidFill>
              <a:latin typeface="Verdana"/>
            </a:endParaRPr>
          </a:p>
          <a:p>
            <a:pPr lvl="4" marL="1430280" indent="-280800">
              <a:spcBef>
                <a:spcPts val="451"/>
              </a:spcBef>
              <a:buClr>
                <a:srgbClr val="52a7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0c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0c00"/>
              </a:solidFill>
              <a:latin typeface="Verdana"/>
            </a:endParaRPr>
          </a:p>
          <a:p>
            <a:pPr lvl="5" marL="1430280" indent="-280800">
              <a:spcBef>
                <a:spcPts val="451"/>
              </a:spcBef>
              <a:buClr>
                <a:srgbClr val="400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0c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0c00"/>
              </a:solidFill>
              <a:latin typeface="Verdana"/>
            </a:endParaRPr>
          </a:p>
          <a:p>
            <a:pPr lvl="6" marL="1430280" indent="-280800">
              <a:spcBef>
                <a:spcPts val="451"/>
              </a:spcBef>
              <a:buClr>
                <a:srgbClr val="400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0c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87560"/>
            <a:ext cx="774720" cy="0"/>
          </a:xfrm>
          <a:prstGeom prst="line">
            <a:avLst/>
          </a:prstGeom>
          <a:ln w="57240">
            <a:solidFill>
              <a:srgbClr val="400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0c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293840" y="1087560"/>
            <a:ext cx="8612280" cy="0"/>
          </a:xfrm>
          <a:prstGeom prst="line">
            <a:avLst/>
          </a:prstGeom>
          <a:ln w="57240">
            <a:solidFill>
              <a:srgbClr val="400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0c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1720" y="758880"/>
            <a:ext cx="482400" cy="646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1415520" y="139680"/>
            <a:ext cx="8255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0c00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2050920" y="6479640"/>
            <a:ext cx="5531040" cy="3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400c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400c00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886520" y="6476760"/>
            <a:ext cx="1904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00c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35DF-CFCE-4806-A316-536A0C5E38E5}" type="slidenum">
              <a:rPr b="1" lang="en-US" sz="800" spc="-1" strike="noStrike">
                <a:solidFill>
                  <a:srgbClr val="400c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9394920" y="6531120"/>
            <a:ext cx="0" cy="323640"/>
          </a:xfrm>
          <a:prstGeom prst="line">
            <a:avLst/>
          </a:prstGeom>
          <a:ln w="9360">
            <a:solidFill>
              <a:srgbClr val="400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0c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960560" y="6532560"/>
            <a:ext cx="0" cy="325440"/>
          </a:xfrm>
          <a:prstGeom prst="line">
            <a:avLst/>
          </a:prstGeom>
          <a:ln w="9360">
            <a:solidFill>
              <a:srgbClr val="400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0c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6637320"/>
            <a:ext cx="9906120" cy="220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0c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62000" y="0"/>
            <a:ext cx="7944120" cy="2052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0c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023920"/>
            <a:ext cx="9906120" cy="0"/>
          </a:xfrm>
          <a:prstGeom prst="line">
            <a:avLst/>
          </a:prstGeom>
          <a:ln w="57240">
            <a:solidFill>
              <a:srgbClr val="400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0c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70760" y="5935680"/>
            <a:ext cx="2389320" cy="484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-1440" y="0"/>
            <a:ext cx="1960560" cy="1996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ftr" idx="3"/>
          </p:nvPr>
        </p:nvSpPr>
        <p:spPr>
          <a:xfrm>
            <a:off x="2050920" y="6477120"/>
            <a:ext cx="5531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700" spc="-1" strike="noStrike">
                <a:solidFill>
                  <a:srgbClr val="400c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400c00"/>
                </a:solidFill>
                <a:latin typeface="Verdana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2042640" y="296640"/>
            <a:ext cx="7774200" cy="1174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8cc"/>
                </a:solidFill>
                <a:latin typeface="Verdana"/>
              </a:rPr>
              <a:t>Click to edit the title text format</a:t>
            </a:r>
            <a:endParaRPr b="0" lang="en-US" sz="5300" spc="-1" strike="noStrike">
              <a:solidFill>
                <a:srgbClr val="fff8cc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0" y="6476760"/>
            <a:ext cx="190512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3f0b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3f0b00"/>
                </a:solidFill>
                <a:latin typeface="Verdana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7886520" y="6476760"/>
            <a:ext cx="190476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400c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8BDF-44FC-4B28-B6CB-3CF635041468}" type="slidenum">
              <a:rPr b="1" lang="en-US" sz="700" spc="-1" strike="noStrike">
                <a:solidFill>
                  <a:srgbClr val="400c00"/>
                </a:solidFill>
                <a:latin typeface="Verdana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394920" y="6531120"/>
            <a:ext cx="0" cy="323640"/>
          </a:xfrm>
          <a:prstGeom prst="line">
            <a:avLst/>
          </a:prstGeom>
          <a:ln w="9360">
            <a:solidFill>
              <a:srgbClr val="400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0c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60560" y="6532560"/>
            <a:ext cx="0" cy="325440"/>
          </a:xfrm>
          <a:prstGeom prst="line">
            <a:avLst/>
          </a:prstGeom>
          <a:ln w="9360">
            <a:solidFill>
              <a:srgbClr val="400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0c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00c00"/>
                </a:solidFill>
                <a:latin typeface="Verdana"/>
              </a:rPr>
              <a:t>Click to edit the outline text format</a:t>
            </a:r>
            <a:endParaRPr b="0" lang="en-US" sz="3500" spc="-1" strike="noStrike">
              <a:solidFill>
                <a:srgbClr val="400c00"/>
              </a:solidFill>
              <a:latin typeface="Verdana"/>
            </a:endParaRPr>
          </a:p>
          <a:p>
            <a:pPr lvl="1" marL="144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0c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400c00"/>
              </a:solidFill>
              <a:latin typeface="Verdana"/>
            </a:endParaRPr>
          </a:p>
          <a:p>
            <a:pPr lvl="2" marL="293760" indent="277920" algn="ctr">
              <a:spcBef>
                <a:spcPts val="400"/>
              </a:spcBef>
              <a:buClr>
                <a:srgbClr val="a8847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0c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400c00"/>
              </a:solidFill>
              <a:latin typeface="Verdana"/>
            </a:endParaRPr>
          </a:p>
          <a:p>
            <a:pPr lvl="3" marL="673200" indent="180720" algn="ctr">
              <a:spcBef>
                <a:spcPts val="400"/>
              </a:spcBef>
              <a:buClr>
                <a:srgbClr val="ff51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0c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400c00"/>
              </a:solidFill>
              <a:latin typeface="Verdana"/>
            </a:endParaRPr>
          </a:p>
          <a:p>
            <a:pPr lvl="4" marL="952560" indent="196920" algn="ctr">
              <a:spcBef>
                <a:spcPts val="400"/>
              </a:spcBef>
              <a:buClr>
                <a:srgbClr val="52a7b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0c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400c00"/>
              </a:solidFill>
              <a:latin typeface="Verdana"/>
            </a:endParaRPr>
          </a:p>
          <a:p>
            <a:pPr lvl="5" marL="952560" indent="196920">
              <a:spcBef>
                <a:spcPts val="400"/>
              </a:spcBef>
              <a:buClr>
                <a:srgbClr val="400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0c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400c00"/>
              </a:solidFill>
              <a:latin typeface="Verdana"/>
            </a:endParaRPr>
          </a:p>
          <a:p>
            <a:pPr lvl="6" marL="952560" indent="196920">
              <a:spcBef>
                <a:spcPts val="400"/>
              </a:spcBef>
              <a:buClr>
                <a:srgbClr val="400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0c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400c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82760" y="6597720"/>
            <a:ext cx="173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0c00"/>
                </a:solidFill>
                <a:latin typeface="Arial"/>
              </a:rPr>
              <a:t>January 2008</a:t>
            </a:r>
            <a:endParaRPr b="0" lang="en-US" sz="1400" spc="-1" strike="noStrike">
              <a:solidFill>
                <a:srgbClr val="400c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6597720"/>
            <a:ext cx="9906120" cy="0"/>
          </a:xfrm>
          <a:prstGeom prst="line">
            <a:avLst/>
          </a:prstGeom>
          <a:ln w="9360">
            <a:solidFill>
              <a:srgbClr val="1dab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0c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33840" y="440064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400c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36520" y="4941720"/>
            <a:ext cx="3900600" cy="7369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28520" y="296640"/>
            <a:ext cx="7977240" cy="1174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000" spc="-1" strike="noStrike">
                <a:solidFill>
                  <a:srgbClr val="fff8cc"/>
                </a:solidFill>
                <a:latin typeface="Verdana"/>
              </a:rPr>
              <a:t>Barry Callebaut Consumer Survey 2008</a:t>
            </a:r>
            <a:br>
              <a:rPr sz="2800"/>
            </a:br>
            <a:r>
              <a:rPr b="0" lang="de-CH" sz="2200" spc="-1" strike="noStrike">
                <a:solidFill>
                  <a:srgbClr val="fff8cc"/>
                </a:solidFill>
                <a:latin typeface="Verdana"/>
              </a:rPr>
              <a:t>Chocolate behavior: premium chocolate is on the rise</a:t>
            </a:r>
            <a:endParaRPr b="0" lang="en-US" sz="2200" spc="-1" strike="noStrike">
              <a:solidFill>
                <a:srgbClr val="fff8cc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043600" y="2276640"/>
            <a:ext cx="2076480" cy="18666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008160" y="2276640"/>
            <a:ext cx="2076480" cy="18666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rcRect l="9056" t="0" r="27169" b="0"/>
          <a:stretch/>
        </p:blipFill>
        <p:spPr>
          <a:xfrm flipH="1">
            <a:off x="7113600" y="2276640"/>
            <a:ext cx="2303280" cy="18921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928880" y="1125360"/>
            <a:ext cx="797724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8cc"/>
                </a:solidFill>
                <a:latin typeface="Verdana"/>
              </a:rPr>
              <a:t>(Conducted between 7-28 January 2008)</a:t>
            </a:r>
            <a:endParaRPr b="0" lang="en-US" sz="1600" spc="-1" strike="noStrike">
              <a:solidFill>
                <a:srgbClr val="400c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15520" y="139680"/>
            <a:ext cx="8255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0c00"/>
                </a:solidFill>
                <a:latin typeface="Verdana"/>
              </a:rPr>
              <a:t>7 consumers out of 10 say no special occasion is needed to buy chocolate. Christmas most popular holiday to buy chocolate</a:t>
            </a:r>
            <a:endParaRPr b="0" lang="en-US" sz="2200" spc="-1" strike="noStrike">
              <a:solidFill>
                <a:srgbClr val="400c00"/>
              </a:solidFill>
              <a:latin typeface="Verdan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0" y="1746360"/>
          <a:ext cx="9291600" cy="51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46360"/>
                    <a:ext cx="929160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676520" y="1954080"/>
            <a:ext cx="232668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900" spc="-1" strike="noStrike">
                <a:solidFill>
                  <a:srgbClr val="400c00"/>
                </a:solidFill>
                <a:latin typeface="Verdana"/>
              </a:rPr>
              <a:t>On which occasions do you buy chocolate?</a:t>
            </a:r>
            <a:endParaRPr b="0" lang="en-US" sz="900" spc="-1" strike="noStrike">
              <a:solidFill>
                <a:srgbClr val="400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09E0D-6448-4395-8124-AD789698052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15520" y="139680"/>
            <a:ext cx="8255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400c00"/>
                </a:solidFill>
                <a:latin typeface="Verdana"/>
              </a:rPr>
              <a:t>Consumers are loyal to their brand (45%) and buy the same chocolate as a habit (39%)</a:t>
            </a:r>
            <a:endParaRPr b="0" lang="en-US" sz="23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1524600" y="1833480"/>
            <a:ext cx="264204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900" spc="-1" strike="noStrike">
                <a:solidFill>
                  <a:srgbClr val="400c00"/>
                </a:solidFill>
                <a:latin typeface="Verdana"/>
              </a:rPr>
              <a:t>What makes you buy a certain brand of chocolat</a:t>
            </a:r>
            <a:endParaRPr b="0" lang="en-US" sz="900" spc="-1" strike="noStrike">
              <a:solidFill>
                <a:srgbClr val="400c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0" y="1746360"/>
          <a:ext cx="10591920" cy="58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46360"/>
                    <a:ext cx="10591920" cy="58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BE8C3-401C-48A2-AD3B-F7CFB8BCFD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15520" y="139680"/>
            <a:ext cx="8255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0c00"/>
                </a:solidFill>
                <a:latin typeface="Verdana"/>
              </a:rPr>
              <a:t>German and American (both 59%) consumers are most loyal to their brand, Belgian (68%) and French (45%) consumers are ‘creatures of habit’</a:t>
            </a:r>
            <a:endParaRPr b="0" lang="en-US" sz="2000" spc="-1" strike="noStrike">
              <a:solidFill>
                <a:srgbClr val="400c00"/>
              </a:solidFill>
              <a:latin typeface="Verdan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33520" y="2362320"/>
          <a:ext cx="8610480" cy="38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362320"/>
                    <a:ext cx="8610480" cy="38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1232280" y="1822320"/>
            <a:ext cx="27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900" spc="-1" strike="noStrike">
                <a:solidFill>
                  <a:srgbClr val="400c00"/>
                </a:solidFill>
                <a:latin typeface="Verdana"/>
              </a:rPr>
              <a:t>What makes you buy a certain brand of chocolate?</a:t>
            </a:r>
            <a:endParaRPr b="0" lang="en-US" sz="900" spc="-1" strike="noStrike">
              <a:solidFill>
                <a:srgbClr val="400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0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6340A-056B-4B1C-A923-B09E8D814A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15520" y="139680"/>
            <a:ext cx="8255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400c00"/>
                </a:solidFill>
                <a:latin typeface="Verdana"/>
              </a:rPr>
              <a:t>Especially Germans regularly try different types and flavors of chocolate (25%)</a:t>
            </a:r>
            <a:endParaRPr b="0" lang="en-US" sz="2300" spc="-1" strike="noStrike">
              <a:solidFill>
                <a:srgbClr val="400c00"/>
              </a:solidFill>
              <a:latin typeface="Verdan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533520" y="2286000"/>
          <a:ext cx="845820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86000"/>
                    <a:ext cx="845820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1135080" y="1833480"/>
            <a:ext cx="250632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900" spc="-1" strike="noStrike">
                <a:solidFill>
                  <a:srgbClr val="400c00"/>
                </a:solidFill>
                <a:latin typeface="Verdana"/>
              </a:rPr>
              <a:t>Has your chocolate behaviour changed lately?</a:t>
            </a:r>
            <a:endParaRPr b="0" lang="en-US" sz="900" spc="-1" strike="noStrike">
              <a:solidFill>
                <a:srgbClr val="400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E1DFB-181E-4BA9-B9F3-A6284F7D67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15520" y="139680"/>
            <a:ext cx="8255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0c00"/>
                </a:solidFill>
                <a:latin typeface="Verdana"/>
              </a:rPr>
              <a:t>METHODOLOGY</a:t>
            </a:r>
            <a:endParaRPr b="0" lang="en-US" sz="30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5280" y="1446120"/>
            <a:ext cx="836784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0c00"/>
                </a:solidFill>
                <a:latin typeface="Verdana"/>
                <a:ea typeface="Times New Roman"/>
              </a:rPr>
              <a:t>6 countries participated in the research</a:t>
            </a:r>
            <a:endParaRPr b="0" lang="en-US" sz="1400" spc="-1" strike="noStrike">
              <a:solidFill>
                <a:srgbClr val="400c00"/>
              </a:solidFill>
              <a:latin typeface="Verdana"/>
            </a:endParaRPr>
          </a:p>
          <a:p>
            <a:pPr marL="282600" indent="-282600" algn="just"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0c00"/>
                </a:solidFill>
                <a:latin typeface="Verdana"/>
              </a:rPr>
              <a:t>1009 individuals were interviewed in Germany between January 7</a:t>
            </a:r>
            <a:r>
              <a:rPr b="0" lang="en-US" sz="1400" spc="-1" strike="noStrike" baseline="30000">
                <a:solidFill>
                  <a:srgbClr val="400c00"/>
                </a:solidFill>
                <a:latin typeface="Verdana"/>
              </a:rPr>
              <a:t>th</a:t>
            </a:r>
            <a:r>
              <a:rPr b="0" lang="en-US" sz="1400" spc="-1" strike="noStrike">
                <a:solidFill>
                  <a:srgbClr val="400c00"/>
                </a:solidFill>
                <a:latin typeface="Verdana"/>
              </a:rPr>
              <a:t> and January 12</a:t>
            </a:r>
            <a:r>
              <a:rPr b="0" lang="en-US" sz="1400" spc="-1" strike="noStrike" baseline="30000">
                <a:solidFill>
                  <a:srgbClr val="400c00"/>
                </a:solidFill>
                <a:latin typeface="Verdana"/>
              </a:rPr>
              <a:t>th</a:t>
            </a:r>
            <a:r>
              <a:rPr b="0" lang="en-US" sz="1400" spc="-1" strike="noStrike">
                <a:solidFill>
                  <a:srgbClr val="400c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400c00"/>
              </a:solidFill>
              <a:latin typeface="Verdana"/>
            </a:endParaRPr>
          </a:p>
          <a:p>
            <a:pPr marL="282600" indent="-282600" algn="just"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0c00"/>
                </a:solidFill>
                <a:latin typeface="Verdana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400c00"/>
                </a:solidFill>
                <a:latin typeface="Verdana"/>
              </a:rPr>
              <a:t>1006 individuals were interviewed in the USA between January 8</a:t>
            </a:r>
            <a:r>
              <a:rPr b="0" lang="en-US" sz="1400" spc="-1" strike="noStrike" baseline="30000">
                <a:solidFill>
                  <a:srgbClr val="400c00"/>
                </a:solidFill>
                <a:latin typeface="Verdana"/>
              </a:rPr>
              <a:t>th</a:t>
            </a:r>
            <a:r>
              <a:rPr b="0" lang="en-US" sz="1400" spc="-1" strike="noStrike">
                <a:solidFill>
                  <a:srgbClr val="400c00"/>
                </a:solidFill>
                <a:latin typeface="Verdana"/>
              </a:rPr>
              <a:t> and January 10</a:t>
            </a:r>
            <a:r>
              <a:rPr b="0" lang="en-US" sz="1400" spc="-1" strike="noStrike" baseline="30000">
                <a:solidFill>
                  <a:srgbClr val="400c00"/>
                </a:solidFill>
                <a:latin typeface="Verdana"/>
              </a:rPr>
              <a:t>th</a:t>
            </a:r>
            <a:r>
              <a:rPr b="0" lang="en-US" sz="1400" spc="-1" strike="noStrike">
                <a:solidFill>
                  <a:srgbClr val="400c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400c00"/>
              </a:solidFill>
              <a:latin typeface="Verdana"/>
            </a:endParaRPr>
          </a:p>
          <a:p>
            <a:pPr marL="282600" indent="-282600" algn="just"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0c00"/>
                </a:solidFill>
                <a:latin typeface="Verdana"/>
              </a:rPr>
              <a:t>1012 individuals were interviewed in Switzerland between January 8</a:t>
            </a:r>
            <a:r>
              <a:rPr b="0" lang="en-US" sz="1400" spc="-1" strike="noStrike" baseline="30000">
                <a:solidFill>
                  <a:srgbClr val="400c00"/>
                </a:solidFill>
                <a:latin typeface="Verdana"/>
              </a:rPr>
              <a:t>th</a:t>
            </a:r>
            <a:r>
              <a:rPr b="0" lang="en-US" sz="1400" spc="-1" strike="noStrike">
                <a:solidFill>
                  <a:srgbClr val="400c00"/>
                </a:solidFill>
                <a:latin typeface="Verdana"/>
              </a:rPr>
              <a:t> and January 10</a:t>
            </a:r>
            <a:r>
              <a:rPr b="0" lang="en-US" sz="1400" spc="-1" strike="noStrike" baseline="30000">
                <a:solidFill>
                  <a:srgbClr val="400c00"/>
                </a:solidFill>
                <a:latin typeface="Verdana"/>
              </a:rPr>
              <a:t>th</a:t>
            </a:r>
            <a:r>
              <a:rPr b="0" lang="en-US" sz="1400" spc="-1" strike="noStrike">
                <a:solidFill>
                  <a:srgbClr val="400c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400c00"/>
              </a:solidFill>
              <a:latin typeface="Verdana"/>
            </a:endParaRPr>
          </a:p>
          <a:p>
            <a:pPr marL="282600" indent="-282600">
              <a:spcBef>
                <a:spcPts val="349"/>
              </a:spcBef>
              <a:buClr>
                <a:srgbClr val="ff0000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0c00"/>
                </a:solidFill>
                <a:latin typeface="Verdana"/>
              </a:rPr>
              <a:t>1009 individuals were interviewed in France between January 11</a:t>
            </a:r>
            <a:r>
              <a:rPr b="0" lang="en-US" sz="1400" spc="-1" strike="noStrike" baseline="30000">
                <a:solidFill>
                  <a:srgbClr val="400c00"/>
                </a:solidFill>
                <a:latin typeface="Verdana"/>
              </a:rPr>
              <a:t>th</a:t>
            </a:r>
            <a:r>
              <a:rPr b="0" lang="en-US" sz="1400" spc="-1" strike="noStrike">
                <a:solidFill>
                  <a:srgbClr val="400c00"/>
                </a:solidFill>
                <a:latin typeface="Verdana"/>
              </a:rPr>
              <a:t> and January 14</a:t>
            </a:r>
            <a:r>
              <a:rPr b="0" lang="en-US" sz="1400" spc="-1" strike="noStrike" baseline="30000">
                <a:solidFill>
                  <a:srgbClr val="400c00"/>
                </a:solidFill>
                <a:latin typeface="Verdana"/>
              </a:rPr>
              <a:t>th</a:t>
            </a:r>
            <a:r>
              <a:rPr b="0" lang="en-US" sz="1400" spc="-1" strike="noStrike">
                <a:solidFill>
                  <a:srgbClr val="400c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400c00"/>
              </a:solidFill>
              <a:latin typeface="Verdana"/>
            </a:endParaRPr>
          </a:p>
          <a:p>
            <a:pPr marL="282600" indent="-282600">
              <a:spcBef>
                <a:spcPts val="349"/>
              </a:spcBef>
              <a:buClr>
                <a:srgbClr val="ff0000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0c00"/>
                </a:solidFill>
                <a:latin typeface="Verdana"/>
              </a:rPr>
              <a:t>1034 individuals were interviewed in the UK between January 11</a:t>
            </a:r>
            <a:r>
              <a:rPr b="0" lang="en-US" sz="1400" spc="-1" strike="noStrike" baseline="30000">
                <a:solidFill>
                  <a:srgbClr val="400c00"/>
                </a:solidFill>
                <a:latin typeface="Verdana"/>
              </a:rPr>
              <a:t>th</a:t>
            </a:r>
            <a:r>
              <a:rPr b="0" lang="en-US" sz="1400" spc="-1" strike="noStrike">
                <a:solidFill>
                  <a:srgbClr val="400c00"/>
                </a:solidFill>
                <a:latin typeface="Verdana"/>
              </a:rPr>
              <a:t> and January 17</a:t>
            </a:r>
            <a:r>
              <a:rPr b="0" lang="en-US" sz="1400" spc="-1" strike="noStrike" baseline="30000">
                <a:solidFill>
                  <a:srgbClr val="400c00"/>
                </a:solidFill>
                <a:latin typeface="Verdana"/>
              </a:rPr>
              <a:t>th</a:t>
            </a:r>
            <a:r>
              <a:rPr b="0" lang="en-US" sz="1400" spc="-1" strike="noStrike">
                <a:solidFill>
                  <a:srgbClr val="400c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400c00"/>
              </a:solidFill>
              <a:latin typeface="Verdana"/>
            </a:endParaRPr>
          </a:p>
          <a:p>
            <a:pPr marL="282600" indent="-282600">
              <a:spcBef>
                <a:spcPts val="349"/>
              </a:spcBef>
              <a:buClr>
                <a:srgbClr val="ff0000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0c00"/>
                </a:solidFill>
                <a:latin typeface="Verdana"/>
              </a:rPr>
              <a:t>1022 individuals were interviewed in Belgium between January 18</a:t>
            </a:r>
            <a:r>
              <a:rPr b="0" lang="en-US" sz="1400" spc="-1" strike="noStrike" baseline="30000">
                <a:solidFill>
                  <a:srgbClr val="400c00"/>
                </a:solidFill>
                <a:latin typeface="Verdana"/>
              </a:rPr>
              <a:t>th</a:t>
            </a:r>
            <a:r>
              <a:rPr b="0" lang="en-US" sz="1400" spc="-1" strike="noStrike">
                <a:solidFill>
                  <a:srgbClr val="400c00"/>
                </a:solidFill>
                <a:latin typeface="Verdana"/>
              </a:rPr>
              <a:t> and January 28</a:t>
            </a:r>
            <a:r>
              <a:rPr b="0" lang="en-US" sz="1400" spc="-1" strike="noStrike" baseline="30000">
                <a:solidFill>
                  <a:srgbClr val="400c00"/>
                </a:solidFill>
                <a:latin typeface="Verdana"/>
              </a:rPr>
              <a:t>th</a:t>
            </a:r>
            <a:endParaRPr b="0" lang="en-US" sz="1400" spc="-1" strike="noStrike">
              <a:solidFill>
                <a:srgbClr val="400c00"/>
              </a:solidFill>
              <a:latin typeface="Verdana"/>
            </a:endParaRPr>
          </a:p>
          <a:p>
            <a:pPr marL="28260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0c00"/>
              </a:solidFill>
              <a:latin typeface="Verdana"/>
            </a:endParaRPr>
          </a:p>
          <a:p>
            <a:pPr marL="28260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0c00"/>
                </a:solidFill>
                <a:latin typeface="Verdana"/>
              </a:rPr>
              <a:t>Quotas were imposed on sex, age, occupation (active or not) and region</a:t>
            </a:r>
            <a:endParaRPr b="0" lang="en-US" sz="1400" spc="-1" strike="noStrike">
              <a:solidFill>
                <a:srgbClr val="400c00"/>
              </a:solidFill>
              <a:latin typeface="Verdana"/>
            </a:endParaRPr>
          </a:p>
          <a:p>
            <a:pPr marL="28260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0c00"/>
              </a:solidFill>
              <a:latin typeface="Verdana"/>
            </a:endParaRPr>
          </a:p>
          <a:p>
            <a:pPr marL="28260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0c00"/>
                </a:solidFill>
                <a:latin typeface="Verdana"/>
              </a:rPr>
              <a:t>Data gathering</a:t>
            </a:r>
            <a:endParaRPr b="0" lang="en-US" sz="1400" spc="-1" strike="noStrike">
              <a:solidFill>
                <a:srgbClr val="400c00"/>
              </a:solidFill>
              <a:latin typeface="Verdana"/>
            </a:endParaRPr>
          </a:p>
          <a:p>
            <a:pPr marL="282600" indent="-282600" algn="just">
              <a:spcBef>
                <a:spcPts val="349"/>
              </a:spcBef>
              <a:buClr>
                <a:srgbClr val="ff51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0c00"/>
                </a:solidFill>
                <a:latin typeface="Verdana"/>
              </a:rPr>
              <a:t>Interviews were carried out face-to-face in Belgium, the UK, Germany and France.</a:t>
            </a:r>
            <a:endParaRPr b="0" lang="en-US" sz="1400" spc="-1" strike="noStrike">
              <a:solidFill>
                <a:srgbClr val="400c00"/>
              </a:solidFill>
              <a:latin typeface="Verdana"/>
            </a:endParaRPr>
          </a:p>
          <a:p>
            <a:pPr marL="282600" indent="-282600" algn="just">
              <a:spcBef>
                <a:spcPts val="349"/>
              </a:spcBef>
              <a:buClr>
                <a:srgbClr val="ff51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0c00"/>
                </a:solidFill>
                <a:latin typeface="Verdana"/>
              </a:rPr>
              <a:t>Interviews were carried out by telephone in Switzerland and USA.</a:t>
            </a:r>
            <a:endParaRPr b="0" lang="en-US" sz="1400" spc="-1" strike="noStrike">
              <a:solidFill>
                <a:srgbClr val="400c00"/>
              </a:solidFill>
              <a:latin typeface="Verdana"/>
            </a:endParaRPr>
          </a:p>
          <a:p>
            <a:pPr marL="282600" indent="-282600" algn="just">
              <a:spcBef>
                <a:spcPts val="349"/>
              </a:spcBef>
              <a:buClr>
                <a:srgbClr val="ff51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0c00"/>
                </a:solidFill>
                <a:latin typeface="Verdana"/>
              </a:rPr>
              <a:t>Respondents were interviewed between 07/01/2008 and 28/01/2008</a:t>
            </a:r>
            <a:endParaRPr b="0" lang="en-US" sz="14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9120A-4708-499E-8DF6-E39A2D1968B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15520" y="139680"/>
            <a:ext cx="8255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400c00"/>
                </a:solidFill>
                <a:latin typeface="Verdana"/>
              </a:rPr>
              <a:t>Four out of ten respondents have already discovered origin chocolate</a:t>
            </a:r>
            <a:endParaRPr b="0" lang="en-US" sz="2300" spc="-1" strike="noStrike">
              <a:solidFill>
                <a:srgbClr val="400c00"/>
              </a:solidFill>
              <a:latin typeface="Verdan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2173320"/>
          <a:ext cx="929160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73320"/>
                    <a:ext cx="929160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1646280" y="2138400"/>
            <a:ext cx="215424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900" spc="-1" strike="noStrike">
                <a:solidFill>
                  <a:srgbClr val="400c00"/>
                </a:solidFill>
                <a:latin typeface="Verdana"/>
              </a:rPr>
              <a:t>How often do you eat origin chocolate?</a:t>
            </a:r>
            <a:endParaRPr b="0" lang="en-US" sz="900" spc="-1" strike="noStrike">
              <a:solidFill>
                <a:srgbClr val="400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D1DFA-9112-4299-A1EC-AC45F9F317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15520" y="139680"/>
            <a:ext cx="8255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00c00"/>
                </a:solidFill>
                <a:latin typeface="Verdana"/>
              </a:rPr>
              <a:t>Origin chocolate gaining popularity in Europe, compared to 2006</a:t>
            </a:r>
            <a:endParaRPr b="0" lang="en-US" sz="2300" spc="-1" strike="noStrike">
              <a:solidFill>
                <a:srgbClr val="400c00"/>
              </a:solidFill>
              <a:latin typeface="Verdan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09480" y="2209680"/>
          <a:ext cx="8229600" cy="40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09680"/>
                    <a:ext cx="822960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1447200" y="1833480"/>
            <a:ext cx="170316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900" spc="-1" strike="noStrike">
                <a:solidFill>
                  <a:srgbClr val="400c00"/>
                </a:solidFill>
                <a:latin typeface="Verdana"/>
              </a:rPr>
              <a:t>Origin chocolate consumption</a:t>
            </a:r>
            <a:endParaRPr b="0" lang="en-US" sz="900" spc="-1" strike="noStrike">
              <a:solidFill>
                <a:srgbClr val="400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26980-FFA3-4263-B6BA-AA14E8C69F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15520" y="139680"/>
            <a:ext cx="8255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400c00"/>
                </a:solidFill>
                <a:latin typeface="Verdana"/>
              </a:rPr>
              <a:t>The Americans and Swiss are the most avid fans of origin chocolate</a:t>
            </a:r>
            <a:endParaRPr b="0" lang="en-US" sz="2300" spc="-1" strike="noStrike">
              <a:solidFill>
                <a:srgbClr val="400c00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09480" y="2209680"/>
          <a:ext cx="8229600" cy="40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09680"/>
                    <a:ext cx="822960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1646280" y="1828800"/>
            <a:ext cx="215424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900" spc="-1" strike="noStrike">
                <a:solidFill>
                  <a:srgbClr val="400c00"/>
                </a:solidFill>
                <a:latin typeface="Verdana"/>
              </a:rPr>
              <a:t>How often do you eat origin chocolate?</a:t>
            </a:r>
            <a:endParaRPr b="0" lang="en-US" sz="900" spc="-1" strike="noStrike">
              <a:solidFill>
                <a:srgbClr val="400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0A035-D96F-4634-940C-ABB9F650ED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15520" y="139680"/>
            <a:ext cx="8255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400c00"/>
                </a:solidFill>
                <a:latin typeface="Verdana"/>
              </a:rPr>
              <a:t>Increasing number of consumers in Western Europe and America have tried fair trade chocolate</a:t>
            </a:r>
            <a:endParaRPr b="0" lang="en-US" sz="2300" spc="-1" strike="noStrike">
              <a:solidFill>
                <a:srgbClr val="400c00"/>
              </a:solidFill>
              <a:latin typeface="Verdan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09480" y="2209680"/>
          <a:ext cx="8229600" cy="40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09680"/>
                    <a:ext cx="822960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1407600" y="1905120"/>
            <a:ext cx="191340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900" spc="-1" strike="noStrike">
                <a:solidFill>
                  <a:srgbClr val="400c00"/>
                </a:solidFill>
                <a:latin typeface="Verdana"/>
              </a:rPr>
              <a:t>Fair trade  chocolate consumption</a:t>
            </a:r>
            <a:endParaRPr b="0" lang="en-US" sz="900" spc="-1" strike="noStrike">
              <a:solidFill>
                <a:srgbClr val="400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A3A27-A8C6-46F1-AA8C-DC6FC23C95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15520" y="139680"/>
            <a:ext cx="8255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00c00"/>
                </a:solidFill>
                <a:latin typeface="Verdana"/>
              </a:rPr>
              <a:t>Switzerland (46%) and the U.K. (43%) take the lead in the consumption of fair trade chocolate</a:t>
            </a:r>
            <a:endParaRPr b="0" lang="en-US" sz="2300" spc="-1" strike="noStrike">
              <a:solidFill>
                <a:srgbClr val="400c00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09480" y="2286000"/>
          <a:ext cx="8229600" cy="40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0"/>
                    <a:ext cx="822960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1502280" y="1833480"/>
            <a:ext cx="230364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900" spc="-1" strike="noStrike">
                <a:solidFill>
                  <a:srgbClr val="400c00"/>
                </a:solidFill>
                <a:latin typeface="Verdana"/>
              </a:rPr>
              <a:t>How often do you eat fairtrade chocolate?</a:t>
            </a:r>
            <a:endParaRPr b="0" lang="en-US" sz="900" spc="-1" strike="noStrike">
              <a:solidFill>
                <a:srgbClr val="400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57E86-507A-482E-B0FA-2556EDB2AC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15520" y="139680"/>
            <a:ext cx="8255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400c00"/>
                </a:solidFill>
                <a:latin typeface="Verdana"/>
              </a:rPr>
              <a:t>1 in 5 consumers (24%) in Western-Europe and America have tried organic chocolate</a:t>
            </a:r>
            <a:endParaRPr b="0" lang="en-US" sz="2300" spc="-1" strike="noStrike">
              <a:solidFill>
                <a:srgbClr val="400c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1650240" y="1757520"/>
            <a:ext cx="224280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900" spc="-1" strike="noStrike">
                <a:solidFill>
                  <a:srgbClr val="400c00"/>
                </a:solidFill>
                <a:latin typeface="Verdana"/>
              </a:rPr>
              <a:t>How often do you eat organic chocolate?</a:t>
            </a:r>
            <a:endParaRPr b="0" lang="en-US" sz="900" spc="-1" strike="noStrike">
              <a:solidFill>
                <a:srgbClr val="400c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28600" y="1828800"/>
          <a:ext cx="8825040" cy="48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882504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5B978-8678-4D7B-A99A-EDD6771EBA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15520" y="139680"/>
            <a:ext cx="8255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00c00"/>
                </a:solidFill>
                <a:latin typeface="Verdana"/>
              </a:rPr>
              <a:t>Organic chocolate consumption increased compared to 2006</a:t>
            </a:r>
            <a:endParaRPr b="0" lang="en-US" sz="2300" spc="-1" strike="noStrike">
              <a:solidFill>
                <a:srgbClr val="400c00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09480" y="2209680"/>
          <a:ext cx="8229600" cy="40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09680"/>
                    <a:ext cx="822960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1415880" y="1905120"/>
            <a:ext cx="212400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900" spc="-1" strike="noStrike">
                <a:solidFill>
                  <a:srgbClr val="400c00"/>
                </a:solidFill>
                <a:latin typeface="Verdana"/>
              </a:rPr>
              <a:t>Organic trade  chocolate consumption</a:t>
            </a:r>
            <a:endParaRPr b="0" lang="en-US" sz="900" spc="-1" strike="noStrike">
              <a:solidFill>
                <a:srgbClr val="400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D2934-1788-41CB-BAAF-43ACCE6F8C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4:43:57Z</dcterms:created>
  <dc:creator>CH014611</dc:creator>
  <dc:description/>
  <dc:language>en-US</dc:language>
  <cp:lastModifiedBy>CH014611</cp:lastModifiedBy>
  <cp:lastPrinted>2002-10-22T12:21:27Z</cp:lastPrinted>
  <dcterms:modified xsi:type="dcterms:W3CDTF">2008-03-19T07:31:50Z</dcterms:modified>
  <cp:revision>23</cp:revision>
  <dc:subject/>
  <dc:title>Slide 1</dc:title>
</cp:coreProperties>
</file>